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d885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18960"/>
            <a:ext cx="0" cy="623412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76320"/>
            <a:ext cx="768204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1019160" cy="12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5d885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5d885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714080" y="6264360"/>
            <a:ext cx="192168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437B-6A55-4F22-B697-E675EF7A4AD6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39040" y="6286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d885"/>
                </a:solidFill>
                <a:latin typeface="Times New Roman"/>
              </a:rPr>
              <a:t>CCB2A102</a:t>
            </a:r>
            <a:endParaRPr b="0" lang="en-US" sz="1800" spc="-1" strike="noStrike">
              <a:solidFill>
                <a:srgbClr val="f5d8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Manage Transfers and Discharges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024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Transfers and Discharg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 manage transfers and discharges, and access to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A PAM 600-8-11,and AR 635-200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1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actions required for separation/discharge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proper separation/discharge authoritie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proper routing channels for the separation/discharge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4324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4. Identified the proper separation/discharge and reduction orders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4324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proper distribution of transfer/separation and discharge proceeding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38:58Z</dcterms:created>
  <dc:creator>ADG</dc:creator>
  <dc:description/>
  <dc:language>en-US</dc:language>
  <cp:lastModifiedBy>Administrator</cp:lastModifiedBy>
  <cp:lastPrinted>2000-03-23T21:21:05Z</cp:lastPrinted>
  <dcterms:modified xsi:type="dcterms:W3CDTF">2005-07-08T12:33:22Z</dcterms:modified>
  <cp:revision>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